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038-716D-408E-8238-B31A784C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8C9-804E-49B2-ACEF-BE17E41F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69E-03F5-4B16-A14B-BF85E775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74A-2A45-4B64-8C46-C20B528E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6D54-2B2F-492C-AAB9-6EECD737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BCDF-0CC5-499E-A507-9F0348E0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03FD-AEF6-403A-ACCD-4741E35C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9371-0CE6-48AE-BF41-9FD820E9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A287-3EC3-4C99-BBC9-514B667C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43F6-EFC2-4BF1-91D5-03012C9B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15C5-F3D3-4B8A-9DD3-277C6147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4DBA-1337-4A2F-9DBE-A3E0C8A7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7729-5C15-4861-B8C3-A93A71C0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03EE-C39C-4433-9EE7-23F934F1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6A2F-1701-437A-A5DB-6754483B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01B1-A7EB-4925-9E7A-214146EA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7F68-0629-4ED6-ABFA-DADA27E3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C6C-2B2B-43C6-897E-20C2C556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BE1-9302-4AEA-974D-EB452646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952-3DF4-4F1B-A5A4-AD3D9FBE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242-6F53-46C7-A872-5FA92087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79C-94C4-4C99-A674-D8E0C350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0F5-237B-4F30-895B-B51D94F9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4E8-2B10-4167-8996-D8ACF6FF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9344-04DC-4CFB-9760-27A8A4DE8C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F6E4-2D03-44BF-9648-DEE2750C54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2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 РОССИЙСКОЙ ФЕДЕРАЦИ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ФИЗИЧЕСКОЙ КУЛЬТУРЫ И СПОРТА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КРАСНОДАРСКОГО КРАЯ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ФЕДЕРАЦИЯ ЛЕГКОЙ АТЛЕТИКИ КРАСНОДАРСКОГО КРАЯ  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СРЕДИ УОР, СДЮШОР И ДЮСШ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ЮНИОРЫ И ЮНИОРКИ ДО 20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5-17.05.2013 год.                                  г. Краснодар ст. «КУБА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5438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СРЕДИ УОР, СДЮШОР И ДЮСШ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(ЮНИОРЫ И ЮНИОРКИ ДО 20 ЛЕТ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971720"/>
          <a:ext cx="7931160" cy="3419280"/>
        </p:xfrm>
        <a:graphic>
          <a:graphicData uri="http://schemas.openxmlformats.org/drawingml/2006/table">
            <a:tbl>
              <a:tblPr/>
              <a:tblGrid>
                <a:gridCol w="4156200"/>
                <a:gridCol w="2050920"/>
                <a:gridCol w="172404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соревнований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едатель мандатной коми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к В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бина Н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итин А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лева Н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енко М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шин Л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цын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главного судьи по оборуд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тков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информации церемониа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рявцева В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главного судьи по кад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О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3-05-16T15:21:02Z</cp:lastPrinted>
  <dcterms:modified xsi:type="dcterms:W3CDTF">2013-05-16T16:28:13Z</dcterms:modified>
  <cp:revision>19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